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A3DBC-5AB7-40FC-89B6-F990BF859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F7F2D-0190-4E77-888D-3C542561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4E1C0-B021-4C6C-ADC9-CE9B4385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95EE8-275A-4F23-A00A-E18BEE6E6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A0B9B-ADB7-4E1B-828D-5C1A2411E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2017E-2716-4721-B5F5-E7C2AF359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9CDD1-506B-477E-B43F-F8B2723B8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4F315-B18E-4A85-91DC-7A42AE7CA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42251-AFFA-40AE-A819-4641C9B40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B6235-FAB1-4970-B1AD-9C2D3C10B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8D48-AAEF-43DE-A276-6ACCA498F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D6F91-CDB8-4202-B38A-869C5C1E4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0C1FD-C578-4DD2-AE9C-285E3A8C1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9F83D-9E2C-4B3D-BF8D-488A26061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5039-820D-4699-A894-97D9BE5DA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3672C-BCF3-4FF8-91A7-5C2A6DB8E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4F9AC-D0E3-4F7D-BE20-4D60B2A1C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236F4-DA7C-42FF-8057-E5B1C66A8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37B7F-06C7-498A-8031-AC2D666F1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F6988-A103-48B6-B6C4-ED2B6D48C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CC859-4E1B-4C35-A9F9-5DC67B049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C8A73-588A-4097-9E21-40D69F7EA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DDF3-9B05-44DE-B51E-199787258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A774E-378F-42C2-8EBD-E81590C6E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E94CE-DA7B-4F0A-90BE-1096CE841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D69BD-42E5-4314-8BE0-2C24A195E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78F63-0D76-46B1-9478-C39020AAA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2A65E-8A47-4A63-919E-E54A37099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90088-D6E9-4F26-913A-7F3AD753D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E18E98-9CA5-4D5E-A6AA-87C097052C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A3548C-AF41-43F9-8948-537950E26C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197FE-E5A7-4561-83B4-95C738083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455C4-48AF-4F42-A58B-E66D7E4E9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2E07-1EF0-475A-BE6D-DD425467B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2B503-8B64-4E01-8590-DA14B56EF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81950-48D4-4FE9-9BA7-502011F951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30EF3-3ABA-4C55-BABF-92194D821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A7DEB-0F83-45F6-96D6-601295320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A2E0A-0DDB-4F9A-BF2E-0E8861A2E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32726-D10C-4AD4-85F9-19953F34D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0CE85-B09B-4C63-8627-6F86A5F81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66F62B-F1ED-44A4-AA1A-7FADA3A73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891C5-BEF7-4E76-834D-06C0DC04E6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9A71-DC62-4C3D-B80B-66BA5DB6B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81989-B006-47EE-ADC6-6CB837D4C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DA12C-83B5-406F-8569-FAE33108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90BE-4798-43E1-9FEB-0272138E3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5A0C-BE13-4D82-83EC-2694F3B88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06F1-7763-4D8A-BEBC-C0C0E684C21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D785-3C05-4C5F-AABF-0EE2F3AD3A6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4892-1AFC-4C92-B0ED-62FF5AFDE42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AF2B-A828-4C93-B3E2-06DB7E460F7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38120" y="682560"/>
            <a:ext cx="8420040" cy="2511360"/>
          </a:xfrm>
          <a:prstGeom prst="rect">
            <a:avLst/>
          </a:prstGeom>
          <a:ln w="0">
            <a:noFill/>
          </a:ln>
        </p:spPr>
      </p:pic>
      <p:sp>
        <p:nvSpPr>
          <p:cNvPr id="196" name="PlaceHolder 1"/>
          <p:cNvSpPr>
            <a:spLocks noGrp="1"/>
          </p:cNvSpPr>
          <p:nvPr>
            <p:ph type="subTitle"/>
          </p:nvPr>
        </p:nvSpPr>
        <p:spPr>
          <a:xfrm>
            <a:off x="533160" y="3228840"/>
            <a:ext cx="7854840" cy="2943360"/>
          </a:xfrm>
          <a:prstGeom prst="rect">
            <a:avLst/>
          </a:prstGeom>
          <a:noFill/>
          <a:ln w="0">
            <a:noFill/>
          </a:ln>
        </p:spPr>
        <p:txBody>
          <a:bodyPr lIns="0" rIns="18360" tIns="46800" bIns="46800" anchor="t">
            <a:noAutofit/>
          </a:bodyPr>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epared by:</a:t>
            </a:r>
            <a:endParaRPr b="0" lang="en-US" sz="1800" spc="-1" strike="noStrike">
              <a:solidFill>
                <a:srgbClr val="ffffff"/>
              </a:solidFill>
              <a:latin typeface="Constantia"/>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onna Christian</a:t>
            </a:r>
            <a:endParaRPr b="0" lang="en-US" sz="1800" spc="-1" strike="noStrike">
              <a:solidFill>
                <a:srgbClr val="ffffff"/>
              </a:solidFill>
              <a:latin typeface="Constantia"/>
            </a:endParaRPr>
          </a:p>
        </p:txBody>
      </p:sp>
      <p:pic>
        <p:nvPicPr>
          <p:cNvPr id="197" name="Picture 3" descr=""/>
          <p:cNvPicPr/>
          <p:nvPr/>
        </p:nvPicPr>
        <p:blipFill>
          <a:blip r:embed="rId2"/>
          <a:stretch/>
        </p:blipFill>
        <p:spPr>
          <a:xfrm>
            <a:off x="457200" y="3124080"/>
            <a:ext cx="525780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153280" cy="8380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Arial"/>
                <a:ea typeface="Arial"/>
              </a:rPr>
              <a:t>Website #1- http://life.familyeducation.com/cellular-telephones/school/51264.html</a:t>
            </a:r>
            <a:endParaRPr b="0" lang="en-US" sz="2500" spc="-1" strike="noStrike">
              <a:solidFill>
                <a:srgbClr val="04617b"/>
              </a:solidFill>
              <a:latin typeface="Calibri"/>
            </a:endParaRPr>
          </a:p>
        </p:txBody>
      </p:sp>
      <p:sp>
        <p:nvSpPr>
          <p:cNvPr id="199" name=""/>
          <p:cNvSpPr txBox="1"/>
          <p:nvPr/>
        </p:nvSpPr>
        <p:spPr>
          <a:xfrm>
            <a:off x="457200" y="1752480"/>
            <a:ext cx="4038480" cy="510552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website was very supportive as the reasons why cell phone should not be allowed in schoo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site pointed out that most  administrators regarded cell phone use as disruptive and distracting, and have implemented policies that prohibit using them on school ground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site also provide two pools, the  first one asking: “Should schools allow  cell phones? “The second asking: “Should you allow your child to take a cell phone to school?”</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addition, the links embedded  within the site directed you to baseball advertiseme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Con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often forget to turn off their phones in class, and ringing noises or text-message alerts disrupt learning.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en if set to silent, cell phones can still cause distraction, since</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0" name=""/>
          <p:cNvSpPr txBox="1"/>
          <p:nvPr/>
        </p:nvSpPr>
        <p:spPr>
          <a:xfrm>
            <a:off x="4648320" y="1676160"/>
            <a:ext cx="4038480" cy="4678200"/>
          </a:xfrm>
          <a:prstGeom prst="rect">
            <a:avLst/>
          </a:prstGeom>
          <a:noFill/>
          <a:ln w="0">
            <a:noFill/>
          </a:ln>
        </p:spPr>
        <p:txBody>
          <a:bodyPr lIns="90000" rIns="90000" tIns="46800" bIns="46800" anchor="t">
            <a:normAutofit fontScale="99000"/>
          </a:bodyPr>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ext messaging has become a high-tech method of passing notes in school.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have been known to use cell phones to call in bomb threats to schools, to avoid or condense class time.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event of a widespread crisis, rampant cell phone use can overload communication systems and render them inoperable.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 cell phone networks add to the spread of rumors and misinformation, which can be harmful during a widespread crisis.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ones can be used as cheating devices during exams.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long-term physical effects of cell phone use are still undetermined. </a:t>
            </a:r>
            <a:endParaRPr b="0" lang="en-US" sz="1600" spc="-1" strike="noStrike">
              <a:solidFill>
                <a:srgbClr val="000000"/>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2 - http://www.rajputbrotherhood.com/knowledge-hub/articles/should-cell-phones-be-allowed-in-schools.html</a:t>
            </a:r>
            <a:endParaRPr b="0" lang="en-US" sz="2300" spc="-1" strike="noStrike">
              <a:solidFill>
                <a:srgbClr val="04617b"/>
              </a:solidFill>
              <a:latin typeface="Calibri"/>
            </a:endParaRPr>
          </a:p>
        </p:txBody>
      </p:sp>
      <p:sp>
        <p:nvSpPr>
          <p:cNvPr id="202"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raised some points that could be of concerned to some reader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provided lots of embedded links which lead you to advertisement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indicated that the regular usage of cell phones may affect sense of hearing.  It furthers stated that studies have found that text messages regularly, over a long period of time, could cause repetition strain which may cause both short and long term injuries.  but did not provide its source of referenc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3"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cons</a:t>
            </a:r>
            <a:r>
              <a:rPr b="0" lang="en-US" sz="1800" spc="-1" strike="noStrike">
                <a:solidFill>
                  <a:srgbClr val="000000"/>
                </a:solidFill>
                <a:latin typeface="Arial"/>
                <a:ea typeface="Arial"/>
              </a:rPr>
              <a:t>:</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y may be used for defaming, creating pornographic content, organizing criminal activities </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use cell phone as a source of bullying others (Cyber bully) which makes it difficult to detect and control.</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3 –  http://www.journalstar.com/news/opinion/mailbag/article_7dd5b4ec-963f-11de-a9b3-001cc4c03286.html   </a:t>
            </a:r>
            <a:endParaRPr b="0" lang="en-US" sz="2300" spc="-1" strike="noStrike">
              <a:solidFill>
                <a:srgbClr val="04617b"/>
              </a:solidFill>
              <a:latin typeface="Calibri"/>
            </a:endParaRPr>
          </a:p>
        </p:txBody>
      </p:sp>
      <p:sp>
        <p:nvSpPr>
          <p:cNvPr id="205"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This provided information based on the information gathered by the Pew Research Survey released on August 19, 2009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pointed out the views of several principals in primary, and secondary schools as well as college students.</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ite pointed out that the elementary school students turned in their phones to the teacher for safe keeping during the day and they pick them upon dismissal from school.  And by allowing high school students to use the phone between classes and at lunch reduced the </a:t>
            </a:r>
            <a:r>
              <a:rPr b="0" lang="en-US" sz="1600" spc="-1" strike="noStrike">
                <a:solidFill>
                  <a:srgbClr val="000000"/>
                </a:solidFill>
                <a:latin typeface="Constantia"/>
              </a:rPr>
              <a:t>violations and phone confiscations rate significantly.</a:t>
            </a:r>
            <a:endParaRPr b="0" lang="en-US" sz="16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Pro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cell phone is seen as a critical tool for our daily live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arents and kids rely on it for communicatio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ome use it as their clock, camera, planner, entertainment system, news source and encyclopedia.</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udents at Harvard University use cell phones and other wireless technology to respond to and discuss questions in classes ranging from physics to economics to art and drama.</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4 - http://www.democraticmedia.org/current_projects/privacy/analysis/mobile_marketing/d/2#ftn138</a:t>
            </a:r>
            <a:endParaRPr b="0" lang="en-US" sz="2300" spc="-1" strike="noStrike">
              <a:solidFill>
                <a:srgbClr val="04617b"/>
              </a:solidFill>
              <a:latin typeface="Calibri"/>
            </a:endParaRPr>
          </a:p>
        </p:txBody>
      </p:sp>
      <p:sp>
        <p:nvSpPr>
          <p:cNvPr id="208" name=""/>
          <p:cNvSpPr txBox="1"/>
          <p:nvPr/>
        </p:nvSpPr>
        <p:spPr>
          <a:xfrm>
            <a:off x="457200" y="2133360"/>
            <a:ext cx="4038480" cy="422100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contained a great amount of information that was supported by links to various surveys and research that was conducted.</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contained a lot of endnote and footnotes that took you directly into the reference point and/or source for providing the informatio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ood thing about this site is that it did not contain any advertisements.  </a:t>
            </a:r>
            <a:endParaRPr b="0" lang="en-US" sz="1800" spc="-1" strike="noStrike">
              <a:solidFill>
                <a:srgbClr val="000000"/>
              </a:solidFill>
              <a:latin typeface="Constantia"/>
            </a:endParaRPr>
          </a:p>
        </p:txBody>
      </p:sp>
      <p:sp>
        <p:nvSpPr>
          <p:cNvPr id="209" name=""/>
          <p:cNvSpPr txBox="1"/>
          <p:nvPr/>
        </p:nvSpPr>
        <p:spPr>
          <a:xfrm>
            <a:off x="4648320" y="2133360"/>
            <a:ext cx="4038480" cy="422100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ros: </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believes that their cell phone provided a sense of security while on the g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ell phone has become their mobile safety net when needing a rid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tting important information for school project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lping out someone in troubl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viewed their cell phone as the key to their social lif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carry cell phones to have access to friends, family and current ev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Arial"/>
                <a:ea typeface="Arial"/>
              </a:rPr>
              <a:t>Web References</a:t>
            </a:r>
            <a:endParaRPr b="0" lang="en-US" sz="5400" spc="-1" strike="noStrike">
              <a:solidFill>
                <a:srgbClr val="04617b"/>
              </a:solidFill>
              <a:latin typeface="Calibri"/>
            </a:endParaRPr>
          </a:p>
        </p:txBody>
      </p:sp>
      <p:sp>
        <p:nvSpPr>
          <p:cNvPr id="211"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life,familyeducation.com/cellular-telephone/school/51264.htm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www.rajputbrotherhood.com/knowledge-hub/articles/should-cell-phones-be-allowed-in-schools.htm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a:ea typeface="Arial"/>
              </a:rPr>
              <a:t>http://www.journalstar.com/news/opinion/mailbag/article_7dd5b4ec-963f-11de-a9b3-001cc4c03286.htm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www.democraticmedia.org/current_projects/privacy/analysis/mobile_marketing/d/2</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6:52:36Z</dcterms:created>
  <dc:creator>Donna Christian</dc:creator>
  <dc:description/>
  <dc:language>en-US</dc:language>
  <cp:lastModifiedBy>Donna Christian</cp:lastModifiedBy>
  <dcterms:modified xsi:type="dcterms:W3CDTF">2009-11-22T21:24:22Z</dcterms:modified>
  <cp:revision>28</cp:revision>
  <dc:subject/>
  <dc:title>Should Cell Phone be Allowed in Schools.</dc:title>
</cp:coreProperties>
</file>